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D5C-8B67-41E5-BE0B-6D015AA4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9B0-102C-4253-9F3D-C24C0534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F8A-40DA-423C-9524-7A2C04A7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E8D-65C3-49C5-A5BA-E6AF97A8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177F-12C1-4533-9EDA-C62CE213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DD39-7E27-4F97-A6B5-C116A6F6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4762-F0B7-49A1-97AE-C39E12C9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DC1F-3782-4293-A8CD-29466046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F23D-31C5-44A6-9736-920C8981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9553-0DCB-4D02-A5E9-9E73BCC0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140F-F010-47B6-B72B-58BC1F52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B97-1A53-45C6-AABA-D88B6B89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CACB-757E-457B-8FE5-4EEE5E4F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E5E8-64EF-43B6-B5D7-7251E15E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B7F5-DC13-4590-8242-A71C5109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722B-5C5E-470A-B076-BF77CB17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E243-B968-4585-BCCA-DC7CAD82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BCE-3309-44AB-A027-0B3DDD09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57D-C48B-476F-B195-9CC95E33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C7B0-379E-4F59-8999-13575BED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D27-52B7-4FDC-8A3B-80699588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6B3-62B2-46B8-8344-C2E7F35E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B2E-64D5-462D-AAAA-0A0EEAC0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46C-D872-4C62-AA43-648C60F9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CD01-8705-4ADD-952E-532F5A00EA6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5c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0c64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A7DE-0CE4-432A-8CF3-8E8ED4B6501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4d4f45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d6d5c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0c64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5c6"/>
                </a:solidFill>
                <a:latin typeface="Arial"/>
              </a:rPr>
              <a:t>Earth Science</a:t>
            </a:r>
            <a:endParaRPr b="0" lang="en-US" sz="5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Charlie Wojc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3 Properties of Minerals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ap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10529" t="10633" r="10529" b="12349"/>
          <a:stretch/>
        </p:blipFill>
        <p:spPr>
          <a:xfrm>
            <a:off x="5867280" y="205740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505320" y="4419720"/>
            <a:ext cx="297180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Sedimentary Rock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44832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Igneous 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86764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Metamorphic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49568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Earths layers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u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t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er cor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ner co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352680" y="15238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5c6"/>
                </a:solidFill>
                <a:latin typeface="Arial"/>
              </a:rPr>
              <a:t>Plate tectonics &amp; Continental Drift</a:t>
            </a:r>
            <a:endParaRPr b="0" lang="en-US" sz="40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7242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Spreading Boundaries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095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Fracture Boundaries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43736" r="0" b="7401"/>
          <a:stretch/>
        </p:blipFill>
        <p:spPr>
          <a:xfrm>
            <a:off x="762120" y="2666880"/>
            <a:ext cx="7467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Colliding Boundaries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29259" b="55927"/>
          <a:stretch/>
        </p:blipFill>
        <p:spPr>
          <a:xfrm>
            <a:off x="1981080" y="2286000"/>
            <a:ext cx="4572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Earthquake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pan’s Earthqua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6483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Volcano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0" b="5673"/>
          <a:stretch/>
        </p:blipFill>
        <p:spPr>
          <a:xfrm>
            <a:off x="1295280" y="1676520"/>
            <a:ext cx="638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7:24:33Z</dcterms:created>
  <dc:creator>cwojcik</dc:creator>
  <dc:description/>
  <dc:language>en-US</dc:language>
  <cp:lastModifiedBy>cwojcik</cp:lastModifiedBy>
  <dcterms:modified xsi:type="dcterms:W3CDTF">2011-03-18T17:48:45Z</dcterms:modified>
  <cp:revision>4</cp:revision>
  <dc:subject/>
  <dc:title>Earth Science</dc:title>
</cp:coreProperties>
</file>